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0873-3E8E-4C49-882F-F08776226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DDF5-4B1E-4726-A51C-97DA39E7D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3E3EB-60A4-48C4-A977-3F9EDE23A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E174-85DB-428A-94D9-8EFA62A12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CC4C-34A2-4A7E-BA6F-A263C116D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2C1C6-D258-4944-A6D8-D113D08C4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529237-5C89-4A88-997D-BD3154E76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45CF19-55BB-4BEF-A972-1B5608A61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7331D5-1246-4474-863D-3EA77AB47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E9C3ED-C2FE-48FD-82D8-80B498208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DF3A9A-3A8E-4EC1-865D-9495ED763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49C444-9DC1-4071-B4AE-78B980784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EB4D2C-2976-45D4-9956-7AA10CD61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4A25-69EE-4170-AA5D-24C2ABC9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1679EA-D61E-472A-ACC2-7185E9AF5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B009F8-32BE-4616-95B8-4523782F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13BA12-FC95-449D-86BB-251C71F02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2CAFF1-4958-40AB-9BF0-6A77A99E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B2A670-45A3-4A87-864B-E062F02D4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92F3-58E3-4D5B-8876-8D9FB32C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B774-2E5A-4EEE-B934-E4220B11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ACE58-6A1A-46FA-9057-9905E216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FF54-6F38-44C9-B775-ED2B6530C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A3AD-A424-474D-AE55-99A8F4F7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F934-140C-4E61-BD32-316E576B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6953-EDFA-4AE4-B294-FE61E520B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9C0E-91AE-4337-9530-A3BA49398D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D22F-DDE2-4D16-B051-CB9496E4CC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icemonkey.wordpress.com/2009/01/13/how-to-an-effective-role-playing-strategy/" TargetMode="Externa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5"/>
          <p:cNvSpPr/>
          <p:nvPr/>
        </p:nvSpPr>
        <p:spPr>
          <a:xfrm>
            <a:off x="4267080" y="914400"/>
            <a:ext cx="4876920" cy="3352680"/>
          </a:xfrm>
          <a:prstGeom prst="wedgeEllipseCallout">
            <a:avLst>
              <a:gd name="adj1" fmla="val -43847"/>
              <a:gd name="adj2" fmla="val 69083"/>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4647960" y="2057040"/>
            <a:ext cx="4267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Minoan and Mycenaean Cultures</a:t>
            </a:r>
            <a:endParaRPr b="0" lang="en-US" sz="4800" spc="-1" strike="noStrike">
              <a:solidFill>
                <a:srgbClr val="e3e3ff"/>
              </a:solidFill>
              <a:latin typeface="Arial"/>
            </a:endParaRPr>
          </a:p>
        </p:txBody>
      </p:sp>
      <p:sp>
        <p:nvSpPr>
          <p:cNvPr id="131" name="PlaceHolder 2"/>
          <p:cNvSpPr>
            <a:spLocks noGrp="1"/>
          </p:cNvSpPr>
          <p:nvPr>
            <p:ph type="subTitle"/>
          </p:nvPr>
        </p:nvSpPr>
        <p:spPr>
          <a:xfrm>
            <a:off x="4724280" y="4648320"/>
            <a:ext cx="373392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y: Ben Butler and Alexis Maren</a:t>
            </a:r>
            <a:endParaRPr b="0" lang="en-US" sz="3200" spc="-1" strike="noStrike">
              <a:solidFill>
                <a:srgbClr val="ffffff"/>
              </a:solidFill>
              <a:latin typeface="Arial"/>
            </a:endParaRPr>
          </a:p>
        </p:txBody>
      </p:sp>
      <p:pic>
        <p:nvPicPr>
          <p:cNvPr id="132" name="Picture 4" descr=""/>
          <p:cNvPicPr/>
          <p:nvPr/>
        </p:nvPicPr>
        <p:blipFill>
          <a:blip r:embed="rId2"/>
          <a:srcRect l="28334" t="0" r="28334" b="0"/>
          <a:stretch/>
        </p:blipFill>
        <p:spPr>
          <a:xfrm>
            <a:off x="0" y="0"/>
            <a:ext cx="39625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130"/>
                                        </p:tgtEl>
                                        <p:attrNameLst>
                                          <p:attrName>style.visibility</p:attrName>
                                        </p:attrNameLst>
                                      </p:cBhvr>
                                      <p:to>
                                        <p:strVal val="visible"/>
                                      </p:to>
                                    </p:set>
                                    <p:set>
                                      <p:cBhvr>
                                        <p:cTn id="7" dur="455" fill="hold">
                                          <p:stCondLst>
                                            <p:cond delay="0"/>
                                          </p:stCondLst>
                                        </p:cTn>
                                        <p:tgtEl>
                                          <p:spTgt spid="130"/>
                                        </p:tgtEl>
                                        <p:attrNameLst>
                                          <p:attrName>r</p:attrName>
                                        </p:attrNameLst>
                                      </p:cBhvr>
                                      <p:to>
                                        <p:strVal val="-45"/>
                                      </p:to>
                                    </p:set>
                                    <p:anim calcmode="lin" valueType="num">
                                      <p:cBhvr additive="repl">
                                        <p:cTn id="8"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131">
                                            <p:txEl>
                                              <p:pRg st="0" end="0"/>
                                            </p:txEl>
                                          </p:spTgt>
                                        </p:tgtEl>
                                        <p:attrNameLst>
                                          <p:attrName>style.visibility</p:attrName>
                                        </p:attrNameLst>
                                      </p:cBhvr>
                                      <p:to>
                                        <p:strVal val="visible"/>
                                      </p:to>
                                    </p:set>
                                    <p:anim calcmode="lin" valueType="num" by="(-#ppt_w*2)">
                                      <p:cBhvr additive="repl">
                                        <p:cTn id="16" dur="500" autoRev="1" fill="hold">
                                          <p:stCondLst>
                                            <p:cond delay="0"/>
                                          </p:stCondLst>
                                        </p:cTn>
                                        <p:tgtEl>
                                          <p:spTgt spid="131">
                                            <p:txEl>
                                              <p:pRg st="0" end="0"/>
                                            </p:txEl>
                                          </p:spTgt>
                                        </p:tgtEl>
                                        <p:attrNameLst>
                                          <p:attrName>ppt_w</p:attrName>
                                        </p:attrNameLst>
                                      </p:cBhvr>
                                    </p:anim>
                                    <p:anim calcmode="lin" valueType="num" by="(#ppt_w*0.50)">
                                      <p:cBhvr additive="repl">
                                        <p:cTn id="17" dur="500" autoRev="1" fill="hold">
                                          <p:stCondLst>
                                            <p:cond delay="0"/>
                                          </p:stCondLst>
                                        </p:cTn>
                                        <p:tgtEl>
                                          <p:spTgt spid="131">
                                            <p:txEl>
                                              <p:pRg st="0" end="0"/>
                                            </p:txEl>
                                          </p:spTgt>
                                        </p:tgtEl>
                                        <p:attrNameLst>
                                          <p:attrName>ppt_x</p:attrName>
                                        </p:attrNameLst>
                                      </p:cBhvr>
                                    </p:anim>
                                    <p:anim calcmode="lin" valueType="num" from="(-#ppt_h/2)" to="(#ppt_y)">
                                      <p:cBhvr additive="repl">
                                        <p:cTn id="18" dur="1000" fill="hold">
                                          <p:stCondLst>
                                            <p:cond delay="0"/>
                                          </p:stCondLst>
                                        </p:cTn>
                                        <p:tgtEl>
                                          <p:spTgt spid="131">
                                            <p:txEl>
                                              <p:pRg st="0" end="0"/>
                                            </p:txEl>
                                          </p:spTgt>
                                        </p:tgtEl>
                                        <p:attrNameLst>
                                          <p:attrName>ppt_y</p:attrName>
                                        </p:attrNameLst>
                                      </p:cBhvr>
                                    </p:anim>
                                    <p:animRot by="21600000">
                                      <p:cBhvr>
                                        <p:cTn id="19" dur="1000" fill="hold">
                                          <p:stCondLst>
                                            <p:cond delay="0"/>
                                          </p:stCondLst>
                                        </p:cTn>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ing of the Minoan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king lived in a gigantic pala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is palace has 1,500 rooms which made it hard to find your wa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34">
                                  <p:stCondLst>
                                    <p:cond delay="0"/>
                                  </p:stCondLst>
                                  <p:iterate type="lt">
                                    <p:tmAbs val="50"/>
                                  </p:iterate>
                                  <p:childTnLst>
                                    <p:audio isNarration="0">
                                      <p:cMediaNode showWhenStopped="1">
                                        <p:cTn/>
                                        <p:tgtEl>
                                          <p:sndTgt r:embed="rId1" name="applause.wav"/>
                                        </p:tgtEl>
                                      </p:cMediaNode>
                                    </p:audio>
                                    <p:animMotion origin="layout" path="M 0 0 L 0 -0.07213 E">
                                      <p:cBhvr>
                                        <p:cTn id="25" dur="250" autoRev="1" fill="hold">
                                          <p:stCondLst>
                                            <p:cond delay="0"/>
                                          </p:stCondLst>
                                        </p:cTn>
                                        <p:tgtEl>
                                          <p:spTgt spid="133"/>
                                        </p:tgtEl>
                                      </p:cBhvr>
                                    </p:animMotion>
                                    <p:animRot by="1500000">
                                      <p:cBhvr>
                                        <p:cTn id="26" dur="125" fill="hold">
                                          <p:stCondLst>
                                            <p:cond delay="0"/>
                                          </p:stCondLst>
                                        </p:cTn>
                                        <p:tgtEl>
                                          <p:spTgt spid="133"/>
                                        </p:tgtEl>
                                        <p:attrNameLst>
                                          <p:attrName>r</p:attrName>
                                        </p:attrNameLst>
                                      </p:cBhvr>
                                    </p:animRot>
                                    <p:animRot by="-1500000">
                                      <p:cBhvr>
                                        <p:cTn id="27" dur="125" fill="hold">
                                          <p:stCondLst>
                                            <p:cond delay="125"/>
                                          </p:stCondLst>
                                        </p:cTn>
                                        <p:tgtEl>
                                          <p:spTgt spid="133"/>
                                        </p:tgtEl>
                                        <p:attrNameLst>
                                          <p:attrName>r</p:attrName>
                                        </p:attrNameLst>
                                      </p:cBhvr>
                                    </p:animRot>
                                    <p:animRot by="-1500000">
                                      <p:cBhvr>
                                        <p:cTn id="28" dur="125" fill="hold">
                                          <p:stCondLst>
                                            <p:cond delay="250"/>
                                          </p:stCondLst>
                                        </p:cTn>
                                        <p:tgtEl>
                                          <p:spTgt spid="133"/>
                                        </p:tgtEl>
                                        <p:attrNameLst>
                                          <p:attrName>r</p:attrName>
                                        </p:attrNameLst>
                                      </p:cBhvr>
                                    </p:animRot>
                                    <p:animRot by="1500000">
                                      <p:cBhvr>
                                        <p:cTn id="29" dur="125" fill="hold">
                                          <p:stCondLst>
                                            <p:cond delay="375"/>
                                          </p:stCondLst>
                                        </p:cTn>
                                        <p:tgtEl>
                                          <p:spTgt spid="13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134">
                                            <p:txEl>
                                              <p:pRg st="0" end="0"/>
                                            </p:txEl>
                                          </p:spTgt>
                                        </p:tgtEl>
                                        <p:attrNameLst>
                                          <p:attrName>style.visibility</p:attrName>
                                        </p:attrNameLst>
                                      </p:cBhvr>
                                      <p:to>
                                        <p:strVal val="visible"/>
                                      </p:to>
                                    </p:set>
                                    <p:anim calcmode="discrete" valueType="clr">
                                      <p:cBhvr additive="repl">
                                        <p:cTn id="34" dur="80"/>
                                        <p:tgtEl>
                                          <p:spTgt spid="134">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35" dur="80"/>
                                        <p:tgtEl>
                                          <p:spTgt spid="134">
                                            <p:txEl>
                                              <p:pRg st="0" end="0"/>
                                            </p:txEl>
                                          </p:spTgt>
                                        </p:tgtEl>
                                        <p:attrNameLst>
                                          <p:attrName>fillcolor</p:attrName>
                                        </p:attrNameLst>
                                      </p:cBhvr>
                                      <p:tavLst>
                                        <p:tav tm="0">
                                          <p:val>
                                            <p:strVal val="rgb(-52,-52,51)"/>
                                          </p:val>
                                        </p:tav>
                                        <p:tav tm="50000">
                                          <p:val>
                                            <p:strVal val="rgb(-52,-1,0)"/>
                                          </p:val>
                                        </p:tav>
                                      </p:tavLst>
                                    </p:anim>
                                    <p:set>
                                      <p:cBhvr>
                                        <p:cTn id="36" dur="80"/>
                                        <p:tgtEl>
                                          <p:spTgt spid="134">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41"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ography of Cret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fc04"/>
                </a:solidFill>
                <a:latin typeface="Arial"/>
              </a:rPr>
              <a:t>Crete was the island that the Minoans lived 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fc04"/>
                </a:solidFill>
                <a:latin typeface="Arial"/>
              </a:rPr>
              <a:t>The island of Crete is located in the south Mediterranean S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27">
                                  <p:stCondLst>
                                    <p:cond delay="0"/>
                                  </p:stCondLst>
                                  <p:childTnLst>
                                    <p:animClr clrSpc="rgb">
                                      <p:cBhvr>
                                        <p:cTn id="47" dur="250" autoRev="1" fill="hold"/>
                                        <p:tgtEl>
                                          <p:spTgt spid="135"/>
                                        </p:tgtEl>
                                        <p:attrNameLst>
                                          <p:attrName>style.color</p:attrName>
                                        </p:attrNameLst>
                                      </p:cBhvr>
                                      <p:to>
                                        <a:srgbClr val="003399"/>
                                      </p:to>
                                    </p:animClr>
                                    <p:animClr clrSpc="rgb">
                                      <p:cBhvr>
                                        <p:cTn id="48" dur="250" autoRev="1" fill="hold"/>
                                        <p:tgtEl>
                                          <p:spTgt spid="135"/>
                                        </p:tgtEl>
                                        <p:attrNameLst>
                                          <p:attrName>fillcolor</p:attrName>
                                        </p:attrNameLst>
                                      </p:cBhvr>
                                      <p:to>
                                        <a:srgbClr val="003399"/>
                                      </p:to>
                                    </p:animClr>
                                    <p:set>
                                      <p:cBhvr>
                                        <p:cTn id="49" dur="250" autoRev="1" fill="hold"/>
                                        <p:tgtEl>
                                          <p:spTgt spid="135"/>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0">
                                  <p:stCondLst>
                                    <p:cond delay="0"/>
                                  </p:stCondLst>
                                  <p:childTnLst>
                                    <p:set>
                                      <p:cBhvr>
                                        <p:cTn id="5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4" dur="800"/>
                                        <p:tgtEl>
                                          <p:spTgt spid="136">
                                            <p:txEl>
                                              <p:pRg st="0" end="0"/>
                                            </p:txEl>
                                          </p:spTgt>
                                        </p:tgtEl>
                                      </p:cBhvr>
                                    </p:animEffect>
                                    <p:anim calcmode="lin" valueType="num">
                                      <p:cBhvr additive="repl">
                                        <p:cTn id="55" dur="800" fill="hold"/>
                                        <p:tgtEl>
                                          <p:spTgt spid="136">
                                            <p:txEl>
                                              <p:pRg st="0" end="0"/>
                                            </p:txEl>
                                          </p:spTgt>
                                        </p:tgtEl>
                                        <p:attrNameLst>
                                          <p:attrName>r</p:attrName>
                                        </p:attrNameLst>
                                      </p:cBhvr>
                                      <p:tavLst>
                                        <p:tav tm="0">
                                          <p:val>
                                            <p:strVal val="-90"/>
                                          </p:val>
                                        </p:tav>
                                        <p:tav tm="100000">
                                          <p:val>
                                            <p:strVal val="0"/>
                                          </p:val>
                                        </p:tav>
                                      </p:tavLst>
                                    </p:anim>
                                    <p:anim calcmode="lin" valueType="num">
                                      <p:cBhvr additive="repl">
                                        <p:cTn id="56" dur="800" fill="hold"/>
                                        <p:tgtEl>
                                          <p:spTgt spid="136">
                                            <p:txEl>
                                              <p:pRg st="0" end="0"/>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36">
                                            <p:txEl>
                                              <p:pRg st="0" end="0"/>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36">
                                            <p:txEl>
                                              <p:pRg st="0" end="0"/>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3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64" dur="2000"/>
                                        <p:tgtEl>
                                          <p:spTgt spid="136">
                                            <p:txEl>
                                              <p:pRg st="1" end="1"/>
                                            </p:txEl>
                                          </p:spTgt>
                                        </p:tgtEl>
                                      </p:cBhvr>
                                    </p:animEffect>
                                    <p:anim calcmode="lin" valueType="num">
                                      <p:cBhvr additive="repl">
                                        <p:cTn id="65"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66"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7"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38" name="Picture 4" descr=""/>
          <p:cNvPicPr/>
          <p:nvPr/>
        </p:nvPicPr>
        <p:blipFill>
          <a:blip r:embed="rId1"/>
          <a:stretch/>
        </p:blipFill>
        <p:spPr>
          <a:xfrm>
            <a:off x="1981080" y="0"/>
            <a:ext cx="52722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38"/>
                                        </p:tgtEl>
                                        <p:attrNameLst>
                                          <p:attrName>style.visibility</p:attrName>
                                        </p:attrNameLst>
                                      </p:cBhvr>
                                      <p:to>
                                        <p:strVal val="visible"/>
                                      </p:to>
                                    </p:set>
                                    <p:animEffect filter="dissolve" transition="in">
                                      <p:cBhvr additive="repl">
                                        <p:cTn id="7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Minotaur</a:t>
            </a:r>
            <a:endParaRPr b="0" lang="en-US" sz="4400" spc="-1" strike="noStrike">
              <a:solidFill>
                <a:srgbClr val="e3e3ff"/>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Here is a Minoan folk tal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600" spc="-1" strike="noStrike">
                <a:solidFill>
                  <a:srgbClr val="3399ff"/>
                </a:solidFill>
                <a:latin typeface="Arial"/>
              </a:rPr>
              <a:t>A long time ago, on the island of Crete, there was believed to be a Minotaur. So the king of the Minoans sent his son to kill the Minotaur, but the son had to go through a deadly labyrinth which was hard to get through. Before he went his dad told him to return with the flag raised to signal that he survived. So he went and killed the minotaur but he forgot to raise the flag. So his dad thought that his blood line had ended because his son died and committed suicide by jumping out the castle window.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28">
                                  <p:stCondLst>
                                    <p:cond delay="0"/>
                                  </p:stCondLst>
                                  <p:iterate type="lt">
                                    <p:tmAbs val="50"/>
                                  </p:iterate>
                                  <p:childTnLst>
                                    <p:animClr clrSpc="rgb">
                                      <p:cBhvr>
                                        <p:cTn id="80" dur="500" fill="hold"/>
                                        <p:tgtEl>
                                          <p:spTgt spid="139"/>
                                        </p:tgtEl>
                                        <p:attrNameLst>
                                          <p:attrName>style.color</p:attrName>
                                        </p:attrNameLst>
                                      </p:cBhvr>
                                      <p:to>
                                        <a:srgbClr val="57fc04"/>
                                      </p:to>
                                    </p:animClr>
                                    <p:animClr clrSpc="rgb">
                                      <p:cBhvr>
                                        <p:cTn id="81" dur="500" fill="hold"/>
                                        <p:tgtEl>
                                          <p:spTgt spid="139"/>
                                        </p:tgtEl>
                                        <p:attrNameLst>
                                          <p:attrName>fillcolor</p:attrName>
                                        </p:attrNameLst>
                                      </p:cBhvr>
                                      <p:to>
                                        <a:srgbClr val="57fc04"/>
                                      </p:to>
                                    </p:animClr>
                                    <p:set>
                                      <p:cBhvr>
                                        <p:cTn id="82" dur="500" fill="hold"/>
                                        <p:tgtEl>
                                          <p:spTgt spid="139"/>
                                        </p:tgtEl>
                                        <p:attrNameLst>
                                          <p:attrName>fill.type</p:attrName>
                                        </p:attrNameLst>
                                      </p:cBhvr>
                                      <p:to>
                                        <p:strVal val="solid"/>
                                      </p:to>
                                    </p:set>
                                    <p:anim calcmode="lin" valueType="num" to="1.5">
                                      <p:cBhvr additive="repl">
                                        <p:cTn id="83" dur="500" fill="hold"/>
                                        <p:tgtEl>
                                          <p:spTgt spid="139"/>
                                        </p:tgtEl>
                                        <p:attrNameLst>
                                          <p:attrName>style.fontSize</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140">
                                            <p:txEl>
                                              <p:pRg st="1" end="1"/>
                                            </p:txEl>
                                          </p:spTgt>
                                        </p:tgtEl>
                                        <p:attrNameLst>
                                          <p:attrName>style.visibility</p:attrName>
                                        </p:attrNameLst>
                                      </p:cBhvr>
                                      <p:to>
                                        <p:strVal val="visible"/>
                                      </p:to>
                                    </p:set>
                                    <p:animEffect filter="blinds(vertical)" transition="in">
                                      <p:cBhvr additive="repl">
                                        <p:cTn id="88" dur="500"/>
                                        <p:tgtEl>
                                          <p:spTgt spid="14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93"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405cb"/>
                </a:solidFill>
                <a:latin typeface="Arial"/>
              </a:rPr>
              <a:t>Mycenaean</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greatest of the earliest city stat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t replaced Crete as the center of civilization in the eastern Mediterrane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alls 20 feet thick surrounded the 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path" presetID="0">
                                  <p:stCondLst>
                                    <p:cond delay="0"/>
                                  </p:stCondLst>
                                  <p:childTnLst>
                                    <p:animMotion origin="layout" path="M -0.42361 0.06828 C -0.42256 0.04537 -0.43316 -0.01436 -0.40902 -0.02987 C -0.40295 -0.04098 -0.39895 -0.04167 -0.38958 -0.04746 C -0.37812 -0.05417 -0.36979 -0.06065 -0.35902 -0.06852 C -0.35295 -0.06551 -0.34548 -0.06551 -0.34062 -0.05973 C -0.33715 -0.05556 -0.33888 -0.04769 -0.3368 -0.04213 C -0.33611 -0.03982 -0.3342 -0.03866 -0.33281 -0.03681 C -0.32656 0.00115 -0.35625 0.06504 -0.32638 0.07893 C -0.32291 0.07824 -0.31892 0.07916 -0.31562 0.07708 C -0.31458 0.07638 -0.31527 0.07338 -0.31458 0.07176 C -0.31388 0.0699 -0.31267 0.06828 -0.3118 0.06666 C -0.30503 0.05463 -0.29947 0.04351 -0.29322 0.03148 C -0.29184 0.02569 -0.29166 0.01944 -0.28958 0.01388 C -0.28368 -0.00139 -0.27777 -0.01274 -0.275 -0.02987 C -0.28767 -0.06783 -0.29114 -0.05209 -0.32743 -0.04051 C -0.34583 -0.01991 -0.36041 0.00208 -0.38281 0.01388 C -0.3842 0.01574 -0.3868 0.01666 -0.3868 0.01921 C -0.38611 0.05486 -0.38368 0.09074 -0.3802 0.12615 C -0.37864 0.14143 -0.37256 0.16111 -0.36041 0.16481 C -0.34027 0.16064 -0.31961 0.15601 -0.30138 0.14375 C -0.28559 0.10926 -0.27569 0.07546 -0.26041 0.04027 C -0.24375 0.00231 -0.22656 -0.03449 -0.21458 -0.07547 C -0.21319 -0.09746 -0.20711 -0.13195 -0.225 -0.14561 C -0.22951 -0.14931 -0.23541 -0.14908 -0.24062 -0.15093 C -0.325 -0.13959 -0.28437 -0.14977 -0.32881 -0.12801 C -0.34114 -0.10371 -0.35312 -0.07894 -0.36562 -0.0544 C -0.39062 -0.00533 -0.38298 -0.02917 -0.39062 -0.00348 C -0.30989 0.00763 -0.14739 -0.00463 -0.05781 -0.00348 C -0.04097 0.00208 -0.02864 0.00671 -0.01822 0.02615 C -0.00017 0.14213 -0.05156 0.35277 -0.06961 0.43148 C -0.08472 0.49676 -0.10451 0.55995 -0.12743 0.62106 C -0.18645 0.7787 -0.31979 0.82338 -0.43941 0.8368 C -0.45607 0.83379 -0.47326 0.83472 -0.48941 0.82801 C -0.49236 0.82685 -0.49131 0.81967 -0.49062 0.81574 C -0.4842 0.77731 -0.48003 0.73773 -0.46822 0.70162 C -0.44305 0.62523 -0.41284 0.55185 -0.3802 0.48055 C -0.29878 0.30277 -0.19791 0.14976 -0.04461 0.0824 C -0.01006 0.06713 0.02726 0.06713 0.0632 0.05949 C 0.12223 0.06527 0.18195 0.06481 0.24098 0.07708 C 0.26181 0.08148 0.3 0.10879 0.3 0.10902 C 0.16737 0.13796 0.05348 0.23611 -0.07777 0.27708 C -0.26684 0.33657 -0.46076 0.34027 -0.65382 0.35787 C -0.66822 0.35555 -0.69062 0.36805 -0.69722 0.35069 C -0.70277 0.33611 -0.67395 0.34004 -0.6618 0.3368 C -0.49947 0.29421 -0.52222 0.30208 -0.36701 0.28402 C -0.15937 0.29953 -0.22013 0.27013 -0.05642 0.35787 C -0.02447 0.375 0.00695 0.39351 0.0382 0.41388 C 0.06164 0.42916 0.07101 0.46967 0.09601 0.47546 C 0.11528 0.4456 0.1257 0.41134 0.13959 0.37708 C 0.14167 0.35301 0.14237 0.35185 0.14219 0.31736 C 0.1415 0.23564 0.15695 0.18912 0.11459 0.13495 C 0.10695 0.12569 0.09601 0.12314 0.08698 0.11736 C 0.0224 0.14189 -0.04791 0.14745 -0.10642 0.1912 C -0.14722 0.22176 -0.17361 0.27916 -0.19861 0.33148 C -0.28611 0.51342 -0.2875 0.52384 -0.31701 0.64213 C -0.30347 0.70648 -0.3125 0.67384 -0.2118 0.75069 C -0.18819 0.76875 -0.16545 0.79004 -0.14062 0.80509 C -0.12743 0.81296 -0.1125 0.81412 -0.09861 0.81921 C -0.07309 0.8287 -0.04791 0.83912 -0.02222 0.84907 C 0.07483 0.69213 0.18733 0.55463 0.30678 0.42801 C 0.32431 0.40926 0.41094 0.32986 0.4382 0.31041 C 0.45244 0.30023 0.46789 0.29328 0.48299 0.28588 C 0.49862 0.27824 0.53039 0.26481 0.53039 0.26504 C 0.53473 0.26111 0.5441 0.25509 0.52362 0.25254 C 0.49584 0.24884 0.46771 0.25023 0.43959 0.24907 C 0.24306 0.2581 0.08334 0.26041 -0.11458 0.25254 C -0.12013 0.23356 -0.11961 0.24328 -0.09461 0.22615 C -0.02951 0.18171 0.03577 0.1375 0.10139 0.09467 C 0.20834 0.02476 0.31355 -0.04584 0.43299 -0.06505 C 0.44445 -0.06204 0.45834 -0.06551 0.46858 -0.05625 C 0.49827 -0.02871 0.52084 0.09907 0.525 0.11574 C 0.52709 0.23472 0.53681 0.35856 0.50278 0.47361 C 0.46112 0.61365 0.37136 0.7493 0.29219 0.85254 C 0.24566 0.91319 0.21042 0.94375 0.14862 0.94722 C 0.12466 0.93148 0.09566 0.925 0.07639 0.9 C 0.05278 0.86944 0.03941 0.82731 0.02518 0.78773 C -0.02777 0.64097 -0.02447 0.60926 -0.04861 0.45069 C -0.04461 0.31504 -0.05 0.17847 -0.0368 0.04375 C -0.03229 -0.00417 0.01459 -0.20255 0.03438 -0.28774 C 0.06667 -0.24977 0.05747 -0.2669 0.03959 -0.14931 C 0.02657 -0.0632 0.00747 0.02152 -0.01319 0.10509 C -0.05138 0.26064 -0.1085 0.44838 -0.21822 0.54027 C -0.23993 0.55833 -0.26458 0.56921 -0.28819 0.5824 C -0.3467 0.61551 -0.32847 0.60995 -0.37222 0.61574 C -0.37881 0.61458 -0.38628 0.61666 -0.39201 0.61226 C -0.40173 0.60509 -0.38836 0.58171 -0.38142 0.57013 C -0.36041 0.53472 -0.33836 0.50023 -0.31458 0.46828 C -0.22256 0.34583 -0.12847 0.22615 -0.03402 0.10694 C 0.12917 -0.09908 0.08959 -0.04908 0.28681 -0.22454 C 0.31528 -0.24977 0.30625 -0.24399 0.325 -0.2544 C 0.32917 -0.23982 0.33039 -0.24237 0.32084 -0.22107 C 0.25695 -0.07408 0.20139 0.08009 0.12639 0.21736 C 0.03004 0.39328 -0.03472 0.55787 -0.15642 0.68935 C -0.18368 0.71875 -0.24027 0.76805 -0.27881 0.77361 C -0.28402 0.75972 -0.28767 0.75694 -0.27638 0.73842 C -0.09253 0.44074 -0.075 0.38981 0.10678 0.1912 C 0.14237 0.15231 0.17987 0.11643 0.21719 0.08055 C 0.24306 0.05578 0.29584 0.00879 0.29584 0.00902 C 0.31042 -0.04676 0.30764 -0.03149 0.18959 0.08055 C 0.125 0.14166 0.06268 0.20787 0.00539 0.28055 C -0.04652 0.34629 -0.09062 0.42199 -0.1368 0.49467 C -0.19895 0.59213 -0.225 0.65856 -0.3 0.72268 C -0.30972 0.70972 -0.3125 0.70856 -0.29861 0.67708 C -0.23142 0.525 -0.17777 0.35787 -0.08819 0.22801 C 0.08438 -0.02153 0.05521 -0.01783 0.20678 -0.1544 C 0.26945 -0.21112 0.2533 -0.20301 0.29219 -0.2176 C 0.2165 -0.15324 0.12223 0.00949 0.06962 0.08055 C -0.00763 0.18472 -0.03263 0.21203 -0.11701 0.2912 C -0.14531 0.31759 -0.18958 0.36504 -0.22743 0.37361 C -0.24114 0.3618 -0.2375 0.36759 -0.21701 0.32453 C -0.1559 0.1956 -0.09201 0.06921 -0.02916 -0.05787 C -0.01527 -0.08519 -0.00138 -0.11204 0.0132 -0.13866 C 0.01858 -0.14885 0.03039 -0.16852 0.03039 -0.16829 C 0.0349 -0.18635 0.01059 -0.18542 0.004 -0.18588 C -0.05451 -0.17385 -0.16041 -0.19723 -0.1868 -0.09653 C -0.14791 -0.02778 -0.07517 0.05277 -0.00781 0.05949 C 0.03299 0.0493 0.01823 0.05763 0.0382 0.03842 C 0.02622 0.03125 0.02362 0.02847 0.01459 0.01921 C 0.01407 0.01736 0.01441 0.01504 0.0132 0.01388 C 0.01129 0.01226 0.00886 0.01296 0.00678 0.01226 C 0.00278 0.01111 -0.00138 0.00995 -0.00555 0.00879 C -0.00572 0.00625 -0.00833 -0.00116 -0.00555 -0.00348 C 0.0007 -0.00811 -4.44444E-006 -0.00278 -4.44444E-006 4.07407E-006 E">
                                      <p:cBhvr>
                                        <p:cTn id="99" dur="5000" fill="hold"/>
                                        <p:tgtEl>
                                          <p:spTgt spid="141"/>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anim calcmode="lin" valueType="num">
                                      <p:cBhvr additive="repl">
                                        <p:cTn id="105"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11" dur="1000"/>
                                        <p:tgtEl>
                                          <p:spTgt spid="142">
                                            <p:txEl>
                                              <p:pRg st="1" end="1"/>
                                            </p:txEl>
                                          </p:spTgt>
                                        </p:tgtEl>
                                      </p:cBhvr>
                                    </p:animEffect>
                                    <p:anim calcmode="lin" valueType="num">
                                      <p:cBhvr additive="repl">
                                        <p:cTn id="112"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8" dur="1000"/>
                                        <p:tgtEl>
                                          <p:spTgt spid="142">
                                            <p:txEl>
                                              <p:pRg st="2" end="2"/>
                                            </p:txEl>
                                          </p:spTgt>
                                        </p:tgtEl>
                                      </p:cBhvr>
                                    </p:animEffect>
                                    <p:anim calcmode="lin" valueType="num">
                                      <p:cBhvr additive="repl">
                                        <p:cTn id="119"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3434"/>
                </a:solidFill>
                <a:latin typeface="Arial"/>
              </a:rPr>
              <a:t>Credit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dicemonkey.wordpress.com/2009/01/13/how-to-an-effective-role-playing-strategy/</a:t>
            </a:r>
            <a:r>
              <a:rPr b="0" lang="en-US" sz="3200" spc="-1" strike="noStrike">
                <a:solidFill>
                  <a:srgbClr val="ffffff"/>
                </a:solidFill>
                <a:latin typeface="Arial"/>
              </a:rPr>
              <a:t>  this is for the minotaur pic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Thank you for watching our power poi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WordArt 4"/>
          <p:cNvSpPr txBox="1"/>
          <p:nvPr/>
        </p:nvSpPr>
        <p:spPr>
          <a:xfrm rot="20785800">
            <a:off x="1599840" y="4343400"/>
            <a:ext cx="5343480" cy="1898640"/>
          </a:xfrm>
          <a:prstGeom prst="rect">
            <a:avLst/>
          </a:prstGeom>
        </p:spPr>
        <p:txBody>
          <a:bodyPr wrap="none" lIns="90000" rIns="90000" tIns="46800" bIns="46800" anchor="t" anchorCtr="1">
            <a:prstTxWarp prst="textDeflateBottom">
              <a:avLst>
                <a:gd name="adj" fmla="val 57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We rock!!!!!</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8">
                                  <p:stCondLst>
                                    <p:cond delay="0"/>
                                  </p:stCondLst>
                                  <p:childTnLst>
                                    <p:set>
                                      <p:cBhvr>
                                        <p:cTn id="126" dur="1" fill="hold">
                                          <p:stCondLst>
                                            <p:cond delay="0"/>
                                          </p:stCondLst>
                                        </p:cTn>
                                        <p:tgtEl>
                                          <p:spTgt spid="143"/>
                                        </p:tgtEl>
                                        <p:attrNameLst>
                                          <p:attrName>style.visibility</p:attrName>
                                        </p:attrNameLst>
                                      </p:cBhvr>
                                      <p:to>
                                        <p:strVal val="visible"/>
                                      </p:to>
                                    </p:set>
                                    <p:anim calcmode="lin" valueType="num">
                                      <p:cBhvr additive="repl">
                                        <p:cTn id="127" dur="15000" fill="hold"/>
                                        <p:tgtEl>
                                          <p:spTgt spid="143"/>
                                        </p:tgtEl>
                                        <p:attrNameLst>
                                          <p:attrName>ppt_x</p:attrName>
                                        </p:attrNameLst>
                                      </p:cBhvr>
                                      <p:tavLst>
                                        <p:tav tm="0">
                                          <p:val>
                                            <p:strVal val="#ppt_x"/>
                                          </p:val>
                                        </p:tav>
                                        <p:tav tm="100000">
                                          <p:val>
                                            <p:strVal val="#ppt_x"/>
                                          </p:val>
                                        </p:tav>
                                      </p:tavLst>
                                    </p:anim>
                                    <p:anim calcmode="lin" valueType="num">
                                      <p:cBhvr additive="repl">
                                        <p:cTn id="128" dur="15000" fill="hold"/>
                                        <p:tgtEl>
                                          <p:spTgt spid="143"/>
                                        </p:tgtEl>
                                        <p:attrNameLst>
                                          <p:attrName>ppt_y</p:attrName>
                                        </p:attrNameLst>
                                      </p:cBhvr>
                                      <p:tavLst>
                                        <p:tav tm="0">
                                          <p:val>
                                            <p:strVal val="#ppt_y+1"/>
                                          </p:val>
                                        </p:tav>
                                        <p:tav tm="100000">
                                          <p:val>
                                            <p:strVal val="#ppt_y-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8">
                                  <p:stCondLst>
                                    <p:cond delay="0"/>
                                  </p:stCondLst>
                                  <p:childTnLst>
                                    <p:set>
                                      <p:cBhvr>
                                        <p:cTn id="132" dur="1" fill="hold">
                                          <p:stCondLst>
                                            <p:cond delay="0"/>
                                          </p:stCondLst>
                                        </p:cTn>
                                        <p:tgtEl>
                                          <p:spTgt spid="144">
                                            <p:txEl>
                                              <p:pRg st="0" end="0"/>
                                            </p:txEl>
                                          </p:spTgt>
                                        </p:tgtEl>
                                        <p:attrNameLst>
                                          <p:attrName>style.visibility</p:attrName>
                                        </p:attrNameLst>
                                      </p:cBhvr>
                                      <p:to>
                                        <p:strVal val="visible"/>
                                      </p:to>
                                    </p:set>
                                    <p:anim calcmode="lin" valueType="num">
                                      <p:cBhvr additive="repl">
                                        <p:cTn id="133" dur="1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34" dur="15000" fill="hold"/>
                                        <p:tgtEl>
                                          <p:spTgt spid="144">
                                            <p:txEl>
                                              <p:pRg st="0" end="0"/>
                                            </p:txEl>
                                          </p:spTgt>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15000" fill="hold"/>
                                        <p:tgtEl>
                                          <p:spTgt spid="144"/>
                                        </p:tgtEl>
                                        <p:attrNameLst>
                                          <p:attrName>ppt_x</p:attrName>
                                        </p:attrNameLst>
                                      </p:cBhvr>
                                      <p:tavLst>
                                        <p:tav tm="0">
                                          <p:val>
                                            <p:strVal val="#ppt_x"/>
                                          </p:val>
                                        </p:tav>
                                        <p:tav tm="100000">
                                          <p:val>
                                            <p:strVal val="#ppt_x"/>
                                          </p:val>
                                        </p:tav>
                                      </p:tavLst>
                                    </p:anim>
                                    <p:anim calcmode="lin" valueType="num">
                                      <p:cBhvr additive="repl">
                                        <p:cTn id="138" dur="15000" fill="hold"/>
                                        <p:tgtEl>
                                          <p:spTgt spid="144"/>
                                        </p:tgtEl>
                                        <p:attrNameLst>
                                          <p:attrName>ppt_y</p:attrName>
                                        </p:attrNameLst>
                                      </p:cBhvr>
                                      <p:tavLst>
                                        <p:tav tm="0">
                                          <p:val>
                                            <p:strVal val="#ppt_y+1"/>
                                          </p:val>
                                        </p:tav>
                                        <p:tav tm="100000">
                                          <p:val>
                                            <p:strVal val="#ppt_y-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8">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repl">
                                        <p:cTn id="143" dur="15000" fill="hold"/>
                                        <p:tgtEl>
                                          <p:spTgt spid="145"/>
                                        </p:tgtEl>
                                        <p:attrNameLst>
                                          <p:attrName>ppt_x</p:attrName>
                                        </p:attrNameLst>
                                      </p:cBhvr>
                                      <p:tavLst>
                                        <p:tav tm="0">
                                          <p:val>
                                            <p:strVal val="#ppt_x"/>
                                          </p:val>
                                        </p:tav>
                                        <p:tav tm="100000">
                                          <p:val>
                                            <p:strVal val="#ppt_x"/>
                                          </p:val>
                                        </p:tav>
                                      </p:tavLst>
                                    </p:anim>
                                    <p:anim calcmode="lin" valueType="num">
                                      <p:cBhvr additive="repl">
                                        <p:cTn id="144" dur="15000" fill="hold"/>
                                        <p:tgtEl>
                                          <p:spTgt spid="14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1-05-23T14:44:3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